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A57-152F-4773-BD02-EA35884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502-005F-4B26-89D3-531DE398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C8B-C0FD-4184-A9F5-1BF50A13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91D-7B49-4921-BA5C-4DF9D846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826E-6E04-4067-A676-4AB20562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E2EA5-BD16-40D5-98A4-C40BE4E3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314C2-F1B6-486E-8ABA-1E3BCE15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6F5E2-6A27-4290-BFAA-0020E1ED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5CE41-F4C4-49CA-A598-E5F4944B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F299C-3CB0-4F3C-9D03-62228A8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0DB6-4FB5-4C7F-A06B-01B546E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48F-E44D-4CA3-94F3-645BC54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3C03D-4D7B-47C6-987E-6F6C86C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9300D-C8E1-46F9-8618-5075CEF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45148-D31C-4FF3-AF1B-2ADD00C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621D-C5A6-4C62-A290-A45F2768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1AF24-52E2-4403-A136-73598F4B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B0E0-A027-401E-B5F4-74A5D3BF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ABCB-9292-4434-8120-1802E67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AFEB-DABA-4612-ACE4-A625CFD6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05CA-9FA8-4688-AC5D-3AC30072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EE24-AB83-477E-8F89-4927B10B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4D5-1C0A-4A8B-92B4-9FA2C03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2F54-5F1C-4489-AC1C-1B00154F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23C1D-03D0-42F1-B553-97AE529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96A6-EFD5-46ED-AA2D-6DEC889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C111-C382-47C3-AF87-FA032B3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B4C2-A7DC-4F30-BEBE-8D03147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A04C-79CF-46E3-95C8-4A66EACC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7C79-8AFB-4920-A13D-7F2734E2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56A-96D6-41BC-AE8B-34932E9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CA9-EA0B-4FED-BEB5-B5EB2E2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B4D-47B0-47EA-9FDD-206879B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2FE-368B-402A-B766-A495457D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2E5-039D-4FAB-92F7-C72361E2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99E-7ED3-4CEF-9F19-C02939CC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1AE2-7D60-413F-B9A5-1948DFFB903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3B3-2F4E-41BD-A04A-7DBB488D338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409F-C471-411B-AAB6-C897C164900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icycl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nected end-to-end forming a 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ve single and/or double bonds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“saturated” or “unsaturated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ffix changes depending on presence of double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ix used is always “cyclo~” before the ro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3-dimethyl benz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4-dimethyl 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a-dimethyl benzen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a-dimethyl benze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867040" cy="2951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0275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UPAC has retained many of the common names for aromatics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37712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78040" y="4508640"/>
            <a:ext cx="686268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-ethyl-5-methyl phen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49053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draw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6-diethyl-3-methyl benzaldehy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79760" y="2814480"/>
            <a:ext cx="57373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use whe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ming compounds with &gt;1 fxn’l group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ming compounds with a complicated substitu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54160" y="4611600"/>
            <a:ext cx="8565840" cy="1506600"/>
          </a:xfrm>
          <a:prstGeom prst="rect">
            <a:avLst/>
          </a:prstGeom>
          <a:ln w="0">
            <a:noFill/>
          </a:ln>
        </p:spPr>
      </p:pic>
      <p:grpSp>
        <p:nvGrpSpPr>
          <p:cNvPr id="208" name="Oval 6"/>
          <p:cNvGrpSpPr/>
          <p:nvPr/>
        </p:nvGrpSpPr>
        <p:grpSpPr>
          <a:xfrm>
            <a:off x="1378080" y="4048200"/>
            <a:ext cx="3157560" cy="2870280"/>
            <a:chOff x="1378080" y="4048200"/>
            <a:chExt cx="3157560" cy="2870280"/>
          </a:xfrm>
        </p:grpSpPr>
        <p:pic>
          <p:nvPicPr>
            <p:cNvPr id="209" name="Oval 6" descr=""/>
            <p:cNvPicPr/>
            <p:nvPr/>
          </p:nvPicPr>
          <p:blipFill>
            <a:blip r:embed="rId2"/>
            <a:stretch/>
          </p:blipFill>
          <p:spPr>
            <a:xfrm>
              <a:off x="1378080" y="4048200"/>
              <a:ext cx="315756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009880" y="4641840"/>
              <a:ext cx="1884240" cy="16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11" name="Oval 7"/>
          <p:cNvGrpSpPr/>
          <p:nvPr/>
        </p:nvGrpSpPr>
        <p:grpSpPr>
          <a:xfrm>
            <a:off x="5840280" y="3975120"/>
            <a:ext cx="3376800" cy="3016080"/>
            <a:chOff x="5840280" y="3975120"/>
            <a:chExt cx="3376800" cy="3016080"/>
          </a:xfrm>
        </p:grpSpPr>
        <p:pic>
          <p:nvPicPr>
            <p:cNvPr id="212" name="Oval 7" descr=""/>
            <p:cNvPicPr/>
            <p:nvPr/>
          </p:nvPicPr>
          <p:blipFill>
            <a:blip r:embed="rId3"/>
            <a:stretch/>
          </p:blipFill>
          <p:spPr>
            <a:xfrm>
              <a:off x="5840280" y="3975120"/>
              <a:ext cx="337680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505560" y="4589640"/>
              <a:ext cx="2036880" cy="17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-phenyl hex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254480" y="2349360"/>
            <a:ext cx="36306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draw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,6-diphenyl 2-oc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87560" y="2619360"/>
            <a:ext cx="5572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p nex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at covers the basics of hydrocarbons in organic chemistr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we will cover functional group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buta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-1-pent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pent-1-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141640" cy="169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44880" y="2867040"/>
            <a:ext cx="2463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draw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-1,4-hexadi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,7-diethyl-4-methy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yclo-1,3,5-heptatri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42920" y="3041640"/>
            <a:ext cx="24955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718080" y="1484280"/>
            <a:ext cx="4948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ma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 benzene and the presence of benzene-like r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zene is a six-carbon ring with three double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yclo-1,3,5-hexatrie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the electrons in the double bonds are actually spread over the whole molecule =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localiz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enzene actually has six </a:t>
            </a: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identica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“1 ½” bond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ma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s greater stability in the molecu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“1 ½” bonds do not behave/react like double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lecules that have this type of sharing are referred to a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romatic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484360" y="4581360"/>
            <a:ext cx="1832040" cy="1816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03640" y="4581360"/>
            <a:ext cx="1872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ma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common aromatics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nze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pthal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trac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82560" y="2708280"/>
            <a:ext cx="1405080" cy="139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16280" y="2708280"/>
            <a:ext cx="2692440" cy="1533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90840" y="4724280"/>
            <a:ext cx="3819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9868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mber carbons in benzene ring assigning lowest number to a branc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9120" indent="-493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more than one branch exists, start numbering at the branch that contains the group with the highest priority (most complex)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9868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me branches attached to the benzene ring, assigning numbers to each branc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9120" indent="-493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only one branch is present, a number does not need to be assign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9868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nches are placed before the root as a prefix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ority of branches on benze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00000" y="2924280"/>
          <a:ext cx="7272360" cy="3384360"/>
        </p:xfrm>
        <a:graphic>
          <a:graphicData uri="http://schemas.openxmlformats.org/drawingml/2006/table">
            <a:tbl>
              <a:tblPr/>
              <a:tblGrid>
                <a:gridCol w="3635640"/>
                <a:gridCol w="36367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ighest prio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63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N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F, -Cl, -Br, -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CH2CH2CH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CH2CH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Lowest prio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-CH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benzene has only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ranches, position numbers do not have to be us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ead, prefixes ortho-, meta-, and para- replace position numb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,2-dimethyl 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tho-dimethyl benze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611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C363966</cp:lastModifiedBy>
  <dcterms:modified xsi:type="dcterms:W3CDTF">2017-09-09T00:30:50Z</dcterms:modified>
  <cp:revision>57</cp:revision>
  <dc:subject/>
  <dc:title>Intro to organic chemistry (orgo)</dc:title>
</cp:coreProperties>
</file>